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4.xml" ContentType="application/vnd.openxmlformats-officedocument.theme+xml"/>
  <Override PartName="/ppt/theme/theme28.xml" ContentType="application/vnd.openxmlformats-officedocument.theme+xml"/>
  <Override PartName="/ppt/theme/theme64.xml" ContentType="application/vnd.openxmlformats-officedocument.theme+xml"/>
  <Override PartName="/ppt/theme/theme29.xml" ContentType="application/vnd.openxmlformats-officedocument.theme+xml"/>
  <Override PartName="/ppt/theme/theme63.xml" ContentType="application/vnd.openxmlformats-officedocument.theme+xml"/>
  <Override PartName="/ppt/theme/theme65.xml" ContentType="application/vnd.openxmlformats-officedocument.theme+xml"/>
  <Override PartName="/ppt/theme/theme1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</p:sldMasterIdLst>
  <p:notesMasterIdLst>
    <p:notesMasterId r:id="rId66"/>
  </p:notesMasterIdLst>
  <p:sldIdLst>
    <p:sldId id="256" r:id="rId67"/>
    <p:sldId id="257" r:id="rId68"/>
    <p:sldId id="258" r:id="rId69"/>
    <p:sldId id="259" r:id="rId70"/>
    <p:sldId id="260" r:id="rId71"/>
    <p:sldId id="261" r:id="rId72"/>
    <p:sldId id="262" r:id="rId73"/>
    <p:sldId id="263" r:id="rId74"/>
    <p:sldId id="264" r:id="rId75"/>
    <p:sldId id="265" r:id="rId76"/>
    <p:sldId id="266" r:id="rId77"/>
    <p:sldId id="267" r:id="rId78"/>
    <p:sldId id="268" r:id="rId79"/>
    <p:sldId id="269" r:id="rId8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notesMaster" Target="notesMasters/notesMaster1.xml"/><Relationship Id="rId67" Type="http://schemas.openxmlformats.org/officeDocument/2006/relationships/slide" Target="slides/slide1.xml"/><Relationship Id="rId68" Type="http://schemas.openxmlformats.org/officeDocument/2006/relationships/slide" Target="slides/slide2.xml"/><Relationship Id="rId69" Type="http://schemas.openxmlformats.org/officeDocument/2006/relationships/slide" Target="slides/slide3.xml"/><Relationship Id="rId70" Type="http://schemas.openxmlformats.org/officeDocument/2006/relationships/slide" Target="slides/slide4.xml"/><Relationship Id="rId71" Type="http://schemas.openxmlformats.org/officeDocument/2006/relationships/slide" Target="slides/slide5.xml"/><Relationship Id="rId72" Type="http://schemas.openxmlformats.org/officeDocument/2006/relationships/slide" Target="slides/slide6.xml"/><Relationship Id="rId73" Type="http://schemas.openxmlformats.org/officeDocument/2006/relationships/slide" Target="slides/slide7.xml"/><Relationship Id="rId74" Type="http://schemas.openxmlformats.org/officeDocument/2006/relationships/slide" Target="slides/slide8.xml"/><Relationship Id="rId75" Type="http://schemas.openxmlformats.org/officeDocument/2006/relationships/slide" Target="slides/slide9.xml"/><Relationship Id="rId76" Type="http://schemas.openxmlformats.org/officeDocument/2006/relationships/slide" Target="slides/slide10.xml"/><Relationship Id="rId77" Type="http://schemas.openxmlformats.org/officeDocument/2006/relationships/slide" Target="slides/slide11.xml"/><Relationship Id="rId78" Type="http://schemas.openxmlformats.org/officeDocument/2006/relationships/slide" Target="slides/slide12.xml"/><Relationship Id="rId79" Type="http://schemas.openxmlformats.org/officeDocument/2006/relationships/slide" Target="slides/slide13.xml"/><Relationship Id="rId80" Type="http://schemas.openxmlformats.org/officeDocument/2006/relationships/slide" Target="slides/slide14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2" name="AutoShape 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3" name="AutoShape 2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4" name="AutoShape 3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5" name="AutoShape 4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6" name="AutoShape 5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7" name="AutoShape 6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68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 type="dt" idx="41"/>
          </p:nvPr>
        </p:nvSpPr>
        <p:spPr>
          <a:xfrm>
            <a:off x="3851280" y="0"/>
            <a:ext cx="29368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 type="sldImg"/>
          </p:nvPr>
        </p:nvSpPr>
        <p:spPr>
          <a:xfrm>
            <a:off x="920520" y="744480"/>
            <a:ext cx="4949640" cy="371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move the slide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 type="body"/>
          </p:nvPr>
        </p:nvSpPr>
        <p:spPr>
          <a:xfrm>
            <a:off x="680760" y="4714920"/>
            <a:ext cx="542772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PlaceHolder 5"/>
          <p:cNvSpPr>
            <a:spLocks noGrp="1"/>
          </p:cNvSpPr>
          <p:nvPr>
            <p:ph type="ftr" idx="42"/>
          </p:nvPr>
        </p:nvSpPr>
        <p:spPr>
          <a:xfrm>
            <a:off x="0" y="9428040"/>
            <a:ext cx="29368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PlaceHolder 6"/>
          <p:cNvSpPr>
            <a:spLocks noGrp="1"/>
          </p:cNvSpPr>
          <p:nvPr>
            <p:ph type="sldNum" idx="43"/>
          </p:nvPr>
        </p:nvSpPr>
        <p:spPr>
          <a:xfrm>
            <a:off x="3851280" y="9428040"/>
            <a:ext cx="29368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2160"/>
                <a:tab algn="l" pos="1444680"/>
                <a:tab algn="l" pos="2168640"/>
                <a:tab algn="l" pos="289080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2160"/>
                <a:tab algn="l" pos="1444680"/>
                <a:tab algn="l" pos="2168640"/>
                <a:tab algn="l" pos="289080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BF5A7B-0DCB-48D3-8485-38F2143B3A9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Rectangle 12"/>
          <p:cNvSpPr/>
          <p:nvPr/>
        </p:nvSpPr>
        <p:spPr>
          <a:xfrm>
            <a:off x="3851280" y="942804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8640"/>
                <a:tab algn="l" pos="289080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D5C86A-B2A9-4E7D-80BE-A31DA247B0A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9" name="Text Box 1"/>
          <p:cNvSpPr/>
          <p:nvPr/>
        </p:nvSpPr>
        <p:spPr>
          <a:xfrm>
            <a:off x="919080" y="744480"/>
            <a:ext cx="49626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0" name="PlaceHolder 1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2916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Rectangle 12"/>
          <p:cNvSpPr/>
          <p:nvPr/>
        </p:nvSpPr>
        <p:spPr>
          <a:xfrm>
            <a:off x="3851280" y="942804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8640"/>
                <a:tab algn="l" pos="289080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C559ED-9BCF-4A0F-B12F-BB66FF2EF4C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2" name="Text Box 1"/>
          <p:cNvSpPr/>
          <p:nvPr/>
        </p:nvSpPr>
        <p:spPr>
          <a:xfrm>
            <a:off x="919080" y="744480"/>
            <a:ext cx="496404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3" name="PlaceHolder 1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2916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533F-6F5E-4C2F-AB65-F3367B8BA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0AF4C-437A-4325-A7FE-A5F10454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78539-EFAC-4868-B5D5-0987C1D5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349A8-4ECD-48CB-AADC-17E122BE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3960D-4CE0-45C2-BD44-AEB6F83F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C5C0-BE9F-40BC-ACF6-F7DF12D3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A597-2AEC-40C1-9E27-4440327E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ED3D-2274-454C-B684-FE0660AA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78990-46FF-47BC-B538-754EC46B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F5F8-8748-4C33-B266-F33A053A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7449-38FB-4B99-AE5C-25D667415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7AB87-111A-40B5-94AA-947CCBBC5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71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22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23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98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99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74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75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13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64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65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96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02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03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34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39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40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41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72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77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78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79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16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17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53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54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55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86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91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92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93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24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29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30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31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33E8-0702-4B53-BA36-A2097C134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67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68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69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AFE1-969F-4759-A38A-5C610C81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97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05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10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11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12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748E-E292-48CB-BA79-BD851FF4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41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42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47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48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49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030E-5C4D-49E8-9908-AF1A66A4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63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79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84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85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86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CDD9-1C0B-441E-A6C5-8149AD77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16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061C-833F-443F-BCC7-051A3B76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21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22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23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2FDC-570E-4933-85AB-F82D65CD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53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58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59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60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74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88D8-D85A-40E0-9C4A-BEDB4123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89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90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95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96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797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C40C-D267-49C0-9261-F37F142D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1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11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15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19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26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27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31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32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33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34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FF68-1925-48FC-AC67-9369B549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56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64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67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68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69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70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71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621A-3F09-400E-A1B3-E3AB9ED0B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85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92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93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99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00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01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F252-FAD6-4C61-83B4-D398FD31A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05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06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07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08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26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36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37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38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42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43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44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45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63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74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75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80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81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82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11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12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16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17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18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19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83EA09-BFB4-411D-A337-0B4192EA0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84562F-0BF1-4F81-8F39-F06535DF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08F7B2-12A8-4B88-84C4-FE3C7C86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3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40FCC8-028B-4666-A5D6-FAB20CB6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F678A4-7D41-43F8-963F-EF81F92E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FCB508-F51B-408E-8F8F-F670E72B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37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826027-D0DD-4556-8308-50D86055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E15687-BF30-4E11-A56D-4F4623BA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BC10FA-0569-4137-B913-4EC87A56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C009C1-2950-4FF2-A9C3-CC7D9620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52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53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BA5528-5ABA-4D27-B5F2-D04277F8C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57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58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59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60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7F53DB-1E58-4383-BC7E-80557C97A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FC020F-73C5-4DF9-AEAF-8E3A9E483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312F8D-E55F-463F-A333-4ABE5E40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29C79B-6205-4EDA-8BA7-F230968C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ED5923-0347-40B8-A279-4EBA066A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4BE649-A29F-4B7C-B7E9-572F05AB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364FE1-612B-47F8-8308-BB9AD709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2CF61C-39B5-4DA4-B02A-7BCB9BAB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704C33-9BB6-4762-B61D-BF1726D9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86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1EA518-549E-44A7-87C7-CCABB3E0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EC62CB-322C-4144-9E17-838E04AB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92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93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94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890E3B-A824-4B30-9C60-A28D8141F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97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98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99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00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01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BDA27D-C7B0-4F23-BCF8-56BE26BF0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5E18F4-B9D5-4A01-B554-F656AC957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08538B-86D9-41E1-9AD8-A5C249F1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27D6A7-A361-4797-A644-E1E85AA0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1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77D1E2-1FAC-4C4B-B2B9-BC2CF30B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3C2E24-6AC0-4F20-90FC-32565137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2D2FC7-2B38-4FF2-9CFC-4FA11571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C7FDA9-16CD-4304-B567-7395DE39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F84470-288F-4F5B-AF65-74CE8040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5F2048-2DA8-4577-88B2-8B2D378B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CDCF07-9EA2-4031-AC97-8C3B648F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34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35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47144C-2E96-4DF8-A694-883044575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40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41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42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B84B45-92C3-4C13-B16A-32C717374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DABB45-B862-4B5A-BD2F-4C8E38AE3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CF8163-2E93-424C-B276-7215E9DA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357B52-3B88-43DF-978B-F4F2A91A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54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62B88C-86BA-4BBA-A112-4F00029D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BB640C-A0CE-459F-98D3-2956F25C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58EED5-8798-4681-B279-44F30BEE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60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595101-C09A-4053-A608-7DF470BF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8E7641-5E79-49E3-A575-BD2B155A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A8D9B3-37EC-48D4-BE72-1CA02FB6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5D4C34-B2CD-40C0-80E4-ECFD3C84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75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76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1B6068-370C-4078-925C-620EA262A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79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80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81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82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83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4C7BD0-9E21-4962-A328-55B059598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EEAF91-06C0-4BE9-9356-5D883A1C9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19F665-673B-463F-8C44-0F84A354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A89838-ACF7-466B-9D9F-FB71A9C3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425322-A947-4D7B-9041-8C974A43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D2A269-A0F7-40C1-A531-40986AE8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EACD51-BBB2-4F5B-B8E2-21323D54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0E0239-6BC8-411E-9165-63C368AE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D3BC40-AADC-4BDE-B3D1-A40639EE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09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6C94FA-9A63-4726-84EC-3329D413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9388A3-3E2A-4190-AA0F-4634C97D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17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EE1907-AED7-4125-9E8C-06F70500A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20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21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22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23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24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12F93F-69FD-47D1-8B5D-DF7007CC8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8B697D-6C18-414D-A43B-8FCD69771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231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65A1A1-9E5D-4795-84F1-726D28D9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71F62E-FE24-4D41-B31E-A24B70A6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23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36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96CFD2-2FCA-43A3-8933-9AE3C326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555F42-9897-4DF3-BCC8-572BCAE5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DE5C7D-C17A-4FF6-AB5D-A91F099F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42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CD03E8-801D-47E1-BED9-514B3E10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2D9D06-7F40-431E-891F-17927F7F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823991-0028-46E9-8CE8-F12AD3E6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5A7316-07C7-4A00-AA8D-23ED5C0F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57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58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02B6DD-D194-485A-A35C-958125C06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61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62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63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64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65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722750-7596-4135-BB67-311A0FA16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33F398-7ADB-4CD5-B0DC-1FA22CF32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4FEEE5-200B-4C31-8AF2-0BE51940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A6E950-FFD4-4F86-A3F9-A03BE0CB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52683E-5A24-46CD-95C7-23FFDE70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D076B9-1905-4904-82FD-033CE53C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85CAAA-30FA-4010-907F-CF90D8BE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83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3F8AA7-9011-48D5-90A4-11351FE2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2DD929-7C59-4904-AC8F-A831EE49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91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C78E1A-A1F0-455B-AD54-3F3864B8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B6427D-0237-4807-8637-4CD39B50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9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98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99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A7BFE4-3D34-49C5-A6E6-CDB5DE831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03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04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05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06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DA7B98-1F61-47C8-84B1-418AF07B7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251B7E0-59DB-4DFF-A047-8BBA8E9AA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B95F111-3FEF-4287-B3DF-265BEC15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E17BAC0-3D5B-452E-BB78-F89A8B18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18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2B4B9F1-C00C-4680-A78B-4A56871D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B30C5E8-A37F-497A-97DF-2D978302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A7D1D69-0169-4011-B3F2-A6D75CD1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2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24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A5A7596-4917-415F-8051-8CB98AE7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F3C1CD2-82EE-430A-BC94-48B47E66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32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A92A503-52CB-4CF5-9E7A-0B7BB98B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CDF5B22-9D39-49B7-A3F3-2611DA2A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38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39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40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74E670A-54B5-4D23-B6F6-347A71F2E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34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43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44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45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46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47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9F4088A-09B2-4825-A4F7-19405658E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446FFA-9D0C-4ADB-AF04-CFBED7E39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B88C43-E21F-4D1F-AF3B-DD207D1E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3888B3-5400-47C0-8B07-AD7ABD59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35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59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28D7EE-9749-4937-A2BE-A553B070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752953-7C4E-4237-8DC1-701EC03F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AE6AEF-F82B-471E-8852-0E288A35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65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3A2327-B059-41C0-9785-C28D1867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69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74BDD3-99CA-4B47-92FA-2A093313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73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81D52E-566B-4C50-977F-9AB1D1CD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37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76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DB7EBA-C011-4656-878C-889EF35B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37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79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80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81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C1D558-4398-41C2-BF88-2AE56F18C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85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86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87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88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D5221F-457D-48F6-83D6-0039F52FD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6EB7F8E-3B30-4433-8E05-10BB9D30D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395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A41ABB6-9283-4E2D-B81E-AF346526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15D678F-A37D-4BB9-B043-F4F861C0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0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1A92CE0-C5C6-499A-8BDA-2CF99677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6328A73-B2D6-4556-A341-0D513F4E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A35EC82-2718-453F-B132-9381E528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05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06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92EDCEB-5148-41E0-8C69-2F51E165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32E6C2C-ED57-4D8B-B5C0-5FF7B356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13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14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87D484A-C8F1-4344-AEE3-B8F0C079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17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9EE7635-BDC8-42EF-89FE-AC7BBD66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41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2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21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22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D592252-FD8E-4A06-9139-00AEB1807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25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26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27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28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29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5EE09A4-2B91-44EE-86BD-38ABD0A9E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72C7462-9BE5-405B-9F43-9327D93FF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F1D4E50-23E1-47D9-A523-0BA7B066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08097DB-F9F5-4C62-9D73-0A2883B8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4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1F7D451-6462-4AD5-8EED-6F0C82EB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DF5B70B-317B-4C1F-BAA9-C9B2A392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A8092FF-F532-44B7-83B4-24E94552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46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47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83E83E7-B33C-4481-9EF1-E23F6A81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0D457E4-82C4-43BE-92F2-F735195A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55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1E39570-6F08-4574-9367-CADAA9DA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58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1E6C5EB-305B-49E1-AA87-BF8ECFB0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46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6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62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63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303FC8A-08BC-4C2E-92D6-6A97ADA1C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66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67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68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69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70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D2BA781-3F0E-4A1E-8996-C641AE676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611280" y="1218960"/>
            <a:ext cx="5857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11280" y="7032600"/>
            <a:ext cx="540072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8600" y="285264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128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3378600" y="7032600"/>
            <a:ext cx="26352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243756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263480" y="285264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6112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243756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4263480" y="7032600"/>
            <a:ext cx="1738800" cy="38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3.xml"/><Relationship Id="rId6" Type="http://schemas.openxmlformats.org/officeDocument/2006/relationships/slideLayout" Target="../slideLayouts/slideLayout494.xml"/><Relationship Id="rId7" Type="http://schemas.openxmlformats.org/officeDocument/2006/relationships/slideLayout" Target="../slideLayouts/slideLayout495.xml"/><Relationship Id="rId8" Type="http://schemas.openxmlformats.org/officeDocument/2006/relationships/slideLayout" Target="../slideLayouts/slideLayout496.xml"/><Relationship Id="rId9" Type="http://schemas.openxmlformats.org/officeDocument/2006/relationships/slideLayout" Target="../slideLayouts/slideLayout497.xml"/><Relationship Id="rId10" Type="http://schemas.openxmlformats.org/officeDocument/2006/relationships/slideLayout" Target="../slideLayouts/slideLayout498.xml"/><Relationship Id="rId11" Type="http://schemas.openxmlformats.org/officeDocument/2006/relationships/slideLayout" Target="../slideLayouts/slideLayout499.xml"/><Relationship Id="rId12" Type="http://schemas.openxmlformats.org/officeDocument/2006/relationships/slideLayout" Target="../slideLayouts/slideLayout500.xml"/><Relationship Id="rId13" Type="http://schemas.openxmlformats.org/officeDocument/2006/relationships/slideLayout" Target="../slideLayouts/slideLayout501.xml"/><Relationship Id="rId14" Type="http://schemas.openxmlformats.org/officeDocument/2006/relationships/slideLayout" Target="../slideLayouts/slideLayout502.xml"/><Relationship Id="rId15" Type="http://schemas.openxmlformats.org/officeDocument/2006/relationships/slideLayout" Target="../slideLayouts/slideLayout503.xml"/><Relationship Id="rId16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1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52" name="shpKleurvlakOnder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4e96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shpTekst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4e96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4" name="shpDatum" descr="RO__vervolgpagina~LPPT.png"/>
          <p:cNvPicPr/>
          <p:nvPr/>
        </p:nvPicPr>
        <p:blipFill>
          <a:blip r:embed="rId3"/>
          <a:stretch/>
        </p:blipFill>
        <p:spPr>
          <a:xfrm>
            <a:off x="0" y="0"/>
            <a:ext cx="9144000" cy="857160"/>
          </a:xfrm>
          <a:prstGeom prst="rect">
            <a:avLst/>
          </a:prstGeom>
          <a:ln w="0">
            <a:noFill/>
          </a:ln>
        </p:spPr>
      </p:pic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4"/>
          </p:nvPr>
        </p:nvSpPr>
        <p:spPr>
          <a:xfrm>
            <a:off x="4482720" y="6538680"/>
            <a:ext cx="415620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5D67653-590E-4315-85E6-019E816A8EF9}" type="datetime3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30 juli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5"/>
          </p:nvPr>
        </p:nvSpPr>
        <p:spPr>
          <a:xfrm>
            <a:off x="4476240" y="6368760"/>
            <a:ext cx="41641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ogius, dienst digitale over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6"/>
          </p:nvPr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AA825EF-493E-4CC1-8BBB-39D9251D844B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10920" y="1076040"/>
            <a:ext cx="70102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11280" y="2781000"/>
            <a:ext cx="5400720" cy="72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10920" y="1076040"/>
            <a:ext cx="70102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11280" y="2781000"/>
            <a:ext cx="5400720" cy="72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10920" y="1076040"/>
            <a:ext cx="70102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11280" y="2781000"/>
            <a:ext cx="5400720" cy="72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10920" y="1076040"/>
            <a:ext cx="70102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11280" y="2781000"/>
            <a:ext cx="5400720" cy="72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10920" y="1076040"/>
            <a:ext cx="70102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11280" y="2781000"/>
            <a:ext cx="5400720" cy="72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10920" y="1076040"/>
            <a:ext cx="70102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11280" y="2781000"/>
            <a:ext cx="5400720" cy="72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10920" y="1076040"/>
            <a:ext cx="70102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11280" y="2781000"/>
            <a:ext cx="5400720" cy="72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10920" y="1076040"/>
            <a:ext cx="70102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11280" y="2781000"/>
            <a:ext cx="5400720" cy="72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10920" y="1076040"/>
            <a:ext cx="70102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11280" y="2781000"/>
            <a:ext cx="5400720" cy="72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10920" y="1076040"/>
            <a:ext cx="70102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11280" y="2781000"/>
            <a:ext cx="5400720" cy="72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10920" y="1076040"/>
            <a:ext cx="70102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11280" y="2781000"/>
            <a:ext cx="5400720" cy="72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10920" y="1076040"/>
            <a:ext cx="70102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611280" y="2781000"/>
            <a:ext cx="5400720" cy="72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18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14588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11280" y="114588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611280" y="114588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611280" y="114588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611280" y="114588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11280" y="114588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611280" y="114588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11280" y="114588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11280" y="114588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11280" y="114588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 type="body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611280" y="114588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92360" y="1915920"/>
            <a:ext cx="6541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611280" y="114588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 type="body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611280" y="114588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 type="body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0" name="Picture 1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71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4e96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2" name="Picture 12" descr="2612"/>
          <p:cNvPicPr/>
          <p:nvPr/>
        </p:nvPicPr>
        <p:blipFill>
          <a:blip r:embed="rId3"/>
          <a:stretch/>
        </p:blipFill>
        <p:spPr>
          <a:xfrm>
            <a:off x="0" y="0"/>
            <a:ext cx="4581360" cy="6885000"/>
          </a:xfrm>
          <a:prstGeom prst="rect">
            <a:avLst/>
          </a:prstGeom>
          <a:ln w="0">
            <a:noFill/>
          </a:ln>
        </p:spPr>
      </p:pic>
      <p:pic>
        <p:nvPicPr>
          <p:cNvPr id="1573" name="Picture 11" descr="RO_BZK_LG_Logo_Powerpoint_diap_nl"/>
          <p:cNvPicPr/>
          <p:nvPr/>
        </p:nvPicPr>
        <p:blipFill>
          <a:blip r:embed="rId4"/>
          <a:stretch/>
        </p:blipFill>
        <p:spPr>
          <a:xfrm>
            <a:off x="0" y="0"/>
            <a:ext cx="9144000" cy="2001960"/>
          </a:xfrm>
          <a:prstGeom prst="rect">
            <a:avLst/>
          </a:prstGeom>
          <a:ln w="0">
            <a:noFill/>
          </a:ln>
        </p:spPr>
      </p:pic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611280" y="114588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 type="dt" idx="7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C928605-4F0C-4BC5-B544-E157CF3C3C1F}" type="datetime3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30 juli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5"/>
    <p:sldLayoutId id="2147484183" r:id="rId6"/>
    <p:sldLayoutId id="2147484184" r:id="rId7"/>
    <p:sldLayoutId id="2147484185" r:id="rId8"/>
    <p:sldLayoutId id="2147484186" r:id="rId9"/>
    <p:sldLayoutId id="2147484187" r:id="rId10"/>
    <p:sldLayoutId id="2147484188" r:id="rId11"/>
    <p:sldLayoutId id="2147484189" r:id="rId12"/>
    <p:sldLayoutId id="2147484190" r:id="rId13"/>
    <p:sldLayoutId id="2147484191" r:id="rId14"/>
    <p:sldLayoutId id="2147484192" r:id="rId15"/>
    <p:sldLayoutId id="2147484193" r:id="rId16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1692360" y="1915920"/>
            <a:ext cx="6541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1692360" y="1915920"/>
            <a:ext cx="6541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1692360" y="1915920"/>
            <a:ext cx="6541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1692360" y="1915920"/>
            <a:ext cx="6541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1692360" y="1915920"/>
            <a:ext cx="6541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1692360" y="1915920"/>
            <a:ext cx="6541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1692360" y="1915920"/>
            <a:ext cx="6541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C2DD02C-28A4-4722-820A-4E5B34C7F94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title"/>
          </p:nvPr>
        </p:nvSpPr>
        <p:spPr>
          <a:xfrm>
            <a:off x="3276720" y="107604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body"/>
          </p:nvPr>
        </p:nvSpPr>
        <p:spPr>
          <a:xfrm>
            <a:off x="3276720" y="2781360"/>
            <a:ext cx="5400720" cy="84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1692360" y="1915920"/>
            <a:ext cx="6541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1692360" y="1915920"/>
            <a:ext cx="6541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1692360" y="1915920"/>
            <a:ext cx="6541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1692360" y="1915920"/>
            <a:ext cx="654192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3276720" y="107604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 type="body"/>
          </p:nvPr>
        </p:nvSpPr>
        <p:spPr>
          <a:xfrm>
            <a:off x="3276720" y="2781360"/>
            <a:ext cx="5400720" cy="84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 type="dt" idx="8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 type="ftr" idx="9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4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E0366EF-499C-4A0C-9C18-16ED51014AF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3276720" y="107604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 type="body"/>
          </p:nvPr>
        </p:nvSpPr>
        <p:spPr>
          <a:xfrm>
            <a:off x="3276720" y="2781360"/>
            <a:ext cx="5400720" cy="84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PlaceHolder 3"/>
          <p:cNvSpPr>
            <a:spLocks noGrp="1"/>
          </p:cNvSpPr>
          <p:nvPr>
            <p:ph type="dt" idx="11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4" name="PlaceHolder 4"/>
          <p:cNvSpPr>
            <a:spLocks noGrp="1"/>
          </p:cNvSpPr>
          <p:nvPr>
            <p:ph type="ftr" idx="12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5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167DBEC-B9E0-4548-9588-8FD1026FF3D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3276720" y="107604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 type="body"/>
          </p:nvPr>
        </p:nvSpPr>
        <p:spPr>
          <a:xfrm>
            <a:off x="3276720" y="2781360"/>
            <a:ext cx="5400720" cy="84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PlaceHolder 3"/>
          <p:cNvSpPr>
            <a:spLocks noGrp="1"/>
          </p:cNvSpPr>
          <p:nvPr>
            <p:ph type="dt" idx="14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5" name="PlaceHolder 4"/>
          <p:cNvSpPr>
            <a:spLocks noGrp="1"/>
          </p:cNvSpPr>
          <p:nvPr>
            <p:ph type="ftr" idx="15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6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9EAC00C-D5CE-456C-9333-E7BECEC4AC4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3276720" y="107604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 type="body"/>
          </p:nvPr>
        </p:nvSpPr>
        <p:spPr>
          <a:xfrm>
            <a:off x="3276720" y="2781360"/>
            <a:ext cx="5400720" cy="84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3"/>
          <p:cNvSpPr>
            <a:spLocks noGrp="1"/>
          </p:cNvSpPr>
          <p:nvPr>
            <p:ph type="dt" idx="17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6" name="PlaceHolder 4"/>
          <p:cNvSpPr>
            <a:spLocks noGrp="1"/>
          </p:cNvSpPr>
          <p:nvPr>
            <p:ph type="ftr" idx="18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7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5C28D82-6C0F-45F2-84F1-CA15783984B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3276720" y="107604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 type="body"/>
          </p:nvPr>
        </p:nvSpPr>
        <p:spPr>
          <a:xfrm>
            <a:off x="3276720" y="2781360"/>
            <a:ext cx="5400720" cy="84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 type="dt" idx="20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7" name="PlaceHolder 4"/>
          <p:cNvSpPr>
            <a:spLocks noGrp="1"/>
          </p:cNvSpPr>
          <p:nvPr>
            <p:ph type="ftr" idx="21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8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3FAFC60-FC60-430B-87CE-4F5CD9C3BF9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3276720" y="107604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 type="body"/>
          </p:nvPr>
        </p:nvSpPr>
        <p:spPr>
          <a:xfrm>
            <a:off x="3276720" y="2781360"/>
            <a:ext cx="5400720" cy="84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PlaceHolder 3"/>
          <p:cNvSpPr>
            <a:spLocks noGrp="1"/>
          </p:cNvSpPr>
          <p:nvPr>
            <p:ph type="dt" idx="23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8" name="PlaceHolder 4"/>
          <p:cNvSpPr>
            <a:spLocks noGrp="1"/>
          </p:cNvSpPr>
          <p:nvPr>
            <p:ph type="ftr" idx="24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9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5EE93AD-297A-48D0-9424-AFBA7157FE4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3276720" y="107604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267" name="PlaceHolder 2"/>
          <p:cNvSpPr>
            <a:spLocks noGrp="1"/>
          </p:cNvSpPr>
          <p:nvPr>
            <p:ph type="body"/>
          </p:nvPr>
        </p:nvSpPr>
        <p:spPr>
          <a:xfrm>
            <a:off x="3276720" y="2781360"/>
            <a:ext cx="5400720" cy="84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PlaceHolder 3"/>
          <p:cNvSpPr>
            <a:spLocks noGrp="1"/>
          </p:cNvSpPr>
          <p:nvPr>
            <p:ph type="dt" idx="26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9" name="PlaceHolder 4"/>
          <p:cNvSpPr>
            <a:spLocks noGrp="1"/>
          </p:cNvSpPr>
          <p:nvPr>
            <p:ph type="ftr" idx="27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0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3D2DA66-380D-4054-BC72-0929BCA1ED6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3276720" y="107604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308" name="PlaceHolder 2"/>
          <p:cNvSpPr>
            <a:spLocks noGrp="1"/>
          </p:cNvSpPr>
          <p:nvPr>
            <p:ph type="body"/>
          </p:nvPr>
        </p:nvSpPr>
        <p:spPr>
          <a:xfrm>
            <a:off x="3276720" y="2781360"/>
            <a:ext cx="5400720" cy="84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PlaceHolder 3"/>
          <p:cNvSpPr>
            <a:spLocks noGrp="1"/>
          </p:cNvSpPr>
          <p:nvPr>
            <p:ph type="dt" idx="29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0" name="PlaceHolder 4"/>
          <p:cNvSpPr>
            <a:spLocks noGrp="1"/>
          </p:cNvSpPr>
          <p:nvPr>
            <p:ph type="ftr" idx="30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1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979D784-4D0B-4461-AF3E-05E76D6E5E0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3276720" y="107604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 type="body"/>
          </p:nvPr>
        </p:nvSpPr>
        <p:spPr>
          <a:xfrm>
            <a:off x="3276720" y="2781360"/>
            <a:ext cx="5400720" cy="84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PlaceHolder 3"/>
          <p:cNvSpPr>
            <a:spLocks noGrp="1"/>
          </p:cNvSpPr>
          <p:nvPr>
            <p:ph type="dt" idx="32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1" name="PlaceHolder 4"/>
          <p:cNvSpPr>
            <a:spLocks noGrp="1"/>
          </p:cNvSpPr>
          <p:nvPr>
            <p:ph type="ftr" idx="33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2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535A15A-7C95-4312-BDCA-0C2E1B14DC4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PlaceHolder 1"/>
          <p:cNvSpPr>
            <a:spLocks noGrp="1"/>
          </p:cNvSpPr>
          <p:nvPr>
            <p:ph type="title"/>
          </p:nvPr>
        </p:nvSpPr>
        <p:spPr>
          <a:xfrm>
            <a:off x="3276720" y="107604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390" name="PlaceHolder 2"/>
          <p:cNvSpPr>
            <a:spLocks noGrp="1"/>
          </p:cNvSpPr>
          <p:nvPr>
            <p:ph type="body"/>
          </p:nvPr>
        </p:nvSpPr>
        <p:spPr>
          <a:xfrm>
            <a:off x="3276720" y="2781360"/>
            <a:ext cx="5400720" cy="84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PlaceHolder 3"/>
          <p:cNvSpPr>
            <a:spLocks noGrp="1"/>
          </p:cNvSpPr>
          <p:nvPr>
            <p:ph type="dt" idx="35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2" name="PlaceHolder 4"/>
          <p:cNvSpPr>
            <a:spLocks noGrp="1"/>
          </p:cNvSpPr>
          <p:nvPr>
            <p:ph type="ftr" idx="36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3" name="PlaceHolder 5"/>
          <p:cNvSpPr>
            <a:spLocks noGrp="1"/>
          </p:cNvSpPr>
          <p:nvPr>
            <p:ph type="sldNum" idx="37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EC8D676-60ED-4B37-A454-EDA3D6A907F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3276720" y="107604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 type="body"/>
          </p:nvPr>
        </p:nvSpPr>
        <p:spPr>
          <a:xfrm>
            <a:off x="3276720" y="2781360"/>
            <a:ext cx="5400720" cy="84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PlaceHolder 3"/>
          <p:cNvSpPr>
            <a:spLocks noGrp="1"/>
          </p:cNvSpPr>
          <p:nvPr>
            <p:ph type="dt" idx="38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3" name="PlaceHolder 4"/>
          <p:cNvSpPr>
            <a:spLocks noGrp="1"/>
          </p:cNvSpPr>
          <p:nvPr>
            <p:ph type="ftr" idx="39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4" name="PlaceHolder 5"/>
          <p:cNvSpPr>
            <a:spLocks noGrp="1"/>
          </p:cNvSpPr>
          <p:nvPr>
            <p:ph type="sldNum" idx="40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024F83B-0B11-48A7-9F63-968EC0400E2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11280" y="1218960"/>
            <a:ext cx="5857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18e02"/>
                </a:solidFill>
                <a:latin typeface="DejaVu Sans Condensed"/>
              </a:rPr>
              <a:t>Click to edit the title text format</a:t>
            </a:r>
            <a:endParaRPr b="1" lang="en-US" sz="44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1280" y="2852640"/>
            <a:ext cx="5400720" cy="80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Click to edit the outline text format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con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2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Third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3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our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4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Fif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5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ix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  <a:p>
            <a:pPr lvl="6"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20048"/>
                </a:solidFill>
                <a:latin typeface="DejaVu Sans Condensed"/>
              </a:rPr>
              <a:t>Seventh Outline Level</a:t>
            </a:r>
            <a:endParaRPr b="0" lang="en-US" sz="24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logius/toegang/" TargetMode="External"/><Relationship Id="rId2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0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shpDatum"/>
          <p:cNvSpPr/>
          <p:nvPr/>
        </p:nvSpPr>
        <p:spPr>
          <a:xfrm>
            <a:off x="492912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E001836-6FDC-48A8-8138-B72DD44731B0}" type="datetime3">
              <a:rPr b="0" lang="nl-NL" sz="1800" spc="-1" strike="noStrike">
                <a:solidFill>
                  <a:srgbClr val="ffffff"/>
                </a:solidFill>
                <a:latin typeface="Arial"/>
              </a:rPr>
              <a:t>30 juli 20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5" name="PlaceHolder 1"/>
          <p:cNvSpPr>
            <a:spLocks noGrp="1"/>
          </p:cNvSpPr>
          <p:nvPr>
            <p:ph type="title"/>
          </p:nvPr>
        </p:nvSpPr>
        <p:spPr>
          <a:xfrm>
            <a:off x="4929120" y="2657160"/>
            <a:ext cx="4035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ijnOverheid - Lopende Zaken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UF-conforme koppelvlak </a:t>
            </a:r>
            <a:endParaRPr b="1" lang="en-US" sz="20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486" name="PlaceHolder 2"/>
          <p:cNvSpPr>
            <a:spLocks noGrp="1"/>
          </p:cNvSpPr>
          <p:nvPr>
            <p:ph/>
          </p:nvPr>
        </p:nvSpPr>
        <p:spPr>
          <a:xfrm>
            <a:off x="4943520" y="4246200"/>
            <a:ext cx="3951360" cy="17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StUF-Regiegroep KING</a:t>
            </a:r>
            <a:endParaRPr b="0" lang="en-US" sz="1600" spc="-1" strike="noStrike">
              <a:solidFill>
                <a:srgbClr val="020048"/>
              </a:solidFill>
              <a:latin typeface="DejaVu Sans Condensed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Logius</a:t>
            </a:r>
            <a:endParaRPr b="0" lang="en-US" sz="1600" spc="-1" strike="noStrike">
              <a:solidFill>
                <a:srgbClr val="020048"/>
              </a:solidFill>
              <a:latin typeface="DejaVu Sans Condensed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6 febr 2013</a:t>
            </a:r>
            <a:endParaRPr b="0" lang="en-US" sz="16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shpTitel"/>
          <p:cNvSpPr/>
          <p:nvPr/>
        </p:nvSpPr>
        <p:spPr>
          <a:xfrm>
            <a:off x="4483080" y="6539040"/>
            <a:ext cx="41562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8D644C9-1A23-413D-A564-5F61B3E17CF9}" type="datetime3">
              <a:rPr b="0" lang="nl-NL" sz="1800" spc="-1" strike="noStrike">
                <a:solidFill>
                  <a:srgbClr val="ffffff"/>
                </a:solidFill>
                <a:latin typeface="Arial"/>
              </a:rPr>
              <a:t>30 juli 20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2" name="shpKleurvlakBoven"/>
          <p:cNvSpPr/>
          <p:nvPr/>
        </p:nvSpPr>
        <p:spPr>
          <a:xfrm>
            <a:off x="4476600" y="6369120"/>
            <a:ext cx="4164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3" name="shpBeeldmerk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CD0BD1E-D74B-4492-BF62-7C13FCC83151}" type="slidenum">
              <a:rPr b="0" lang="nl-N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4" name="PlaceHolder 1"/>
          <p:cNvSpPr>
            <a:spLocks noGrp="1"/>
          </p:cNvSpPr>
          <p:nvPr>
            <p:ph type="title"/>
          </p:nvPr>
        </p:nvSpPr>
        <p:spPr>
          <a:xfrm>
            <a:off x="910800" y="1315800"/>
            <a:ext cx="80614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800" spc="-1" strike="noStrike">
                <a:solidFill>
                  <a:srgbClr val="b18e02"/>
                </a:solidFill>
                <a:latin typeface="Verdana"/>
              </a:rPr>
              <a:t>StUF-conformiteit LZ-bericht MO</a:t>
            </a:r>
            <a:endParaRPr b="1" lang="en-US" sz="28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525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3534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Naast MO-zaakbericht definitie nu dus een 2</a:t>
            </a:r>
            <a:r>
              <a:rPr b="0" lang="nl-NL" sz="2000" spc="-1" strike="noStrike" baseline="30000">
                <a:solidFill>
                  <a:srgbClr val="020048"/>
                </a:solidFill>
                <a:latin typeface="Verdana"/>
              </a:rPr>
              <a:t>e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 berichtspecificatie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Het is een generiek ZakLk01 kennisgevingsbericht (StUF ZKN) schema’s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Enkele aanvullende eisen van MO als toevoeging daarin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</p:txBody>
      </p:sp>
      <p:pic>
        <p:nvPicPr>
          <p:cNvPr id="2526" name="Picture 7" descr=""/>
          <p:cNvPicPr/>
          <p:nvPr/>
        </p:nvPicPr>
        <p:blipFill>
          <a:blip r:embed="rId1"/>
          <a:stretch/>
        </p:blipFill>
        <p:spPr>
          <a:xfrm>
            <a:off x="695160" y="2997360"/>
            <a:ext cx="82695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shpTitel"/>
          <p:cNvSpPr/>
          <p:nvPr/>
        </p:nvSpPr>
        <p:spPr>
          <a:xfrm>
            <a:off x="4483080" y="6539040"/>
            <a:ext cx="41562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A942CC5-DAA2-48CE-BE5C-A87E9D9E2B8E}" type="datetime3">
              <a:rPr b="0" lang="nl-NL" sz="1800" spc="-1" strike="noStrike">
                <a:solidFill>
                  <a:srgbClr val="ffffff"/>
                </a:solidFill>
                <a:latin typeface="Arial"/>
              </a:rPr>
              <a:t>30 juli 20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8" name="shpKleurvlakBoven"/>
          <p:cNvSpPr/>
          <p:nvPr/>
        </p:nvSpPr>
        <p:spPr>
          <a:xfrm>
            <a:off x="4476600" y="6369120"/>
            <a:ext cx="4164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9" name="shpBeeldmerk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27A03C9-C057-465E-BB79-107ADEE77CA3}" type="slidenum">
              <a:rPr b="0" lang="nl-N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910800" y="1315800"/>
            <a:ext cx="80614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800" spc="-1" strike="noStrike">
                <a:solidFill>
                  <a:srgbClr val="b18e02"/>
                </a:solidFill>
                <a:latin typeface="Verdana"/>
              </a:rPr>
              <a:t>StUF-conformiteit LZ-bericht MO</a:t>
            </a:r>
            <a:endParaRPr b="1" lang="en-US" sz="28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531" name="PlaceHolder 2"/>
          <p:cNvSpPr>
            <a:spLocks noGrp="1"/>
          </p:cNvSpPr>
          <p:nvPr>
            <p:ph/>
          </p:nvPr>
        </p:nvSpPr>
        <p:spPr>
          <a:xfrm>
            <a:off x="588600" y="1916280"/>
            <a:ext cx="806148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</p:txBody>
      </p:sp>
      <p:pic>
        <p:nvPicPr>
          <p:cNvPr id="2532" name="Picture 2" descr=""/>
          <p:cNvPicPr/>
          <p:nvPr/>
        </p:nvPicPr>
        <p:blipFill>
          <a:blip r:embed="rId1"/>
          <a:stretch/>
        </p:blipFill>
        <p:spPr>
          <a:xfrm>
            <a:off x="0" y="1844640"/>
            <a:ext cx="8964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3" name="shpTitel"/>
          <p:cNvSpPr/>
          <p:nvPr/>
        </p:nvSpPr>
        <p:spPr>
          <a:xfrm>
            <a:off x="4483080" y="6539040"/>
            <a:ext cx="41562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C46BD1B-3801-4EE5-B0FB-04C6FE675A7D}" type="datetime3">
              <a:rPr b="0" lang="nl-NL" sz="1800" spc="-1" strike="noStrike">
                <a:solidFill>
                  <a:srgbClr val="ffffff"/>
                </a:solidFill>
                <a:latin typeface="Arial"/>
              </a:rPr>
              <a:t>30 juli 20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4" name="shpKleurvlakBoven"/>
          <p:cNvSpPr/>
          <p:nvPr/>
        </p:nvSpPr>
        <p:spPr>
          <a:xfrm>
            <a:off x="4476600" y="6369120"/>
            <a:ext cx="4164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5" name="shpBeeldmerk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374B409-EEE0-4306-8136-C6F5367A4196}" type="slidenum">
              <a:rPr b="0" lang="nl-N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6" name="PlaceHolder 1"/>
          <p:cNvSpPr>
            <a:spLocks noGrp="1"/>
          </p:cNvSpPr>
          <p:nvPr>
            <p:ph type="title"/>
          </p:nvPr>
        </p:nvSpPr>
        <p:spPr>
          <a:xfrm>
            <a:off x="910800" y="1315800"/>
            <a:ext cx="80614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800" spc="-1" strike="noStrike">
                <a:solidFill>
                  <a:srgbClr val="b18e02"/>
                </a:solidFill>
                <a:latin typeface="Verdana"/>
              </a:rPr>
              <a:t>Totstandkoming</a:t>
            </a:r>
            <a:endParaRPr b="1" lang="en-US" sz="28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537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6148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Inspiratie: Waarderingskamer en KING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Opdracht: wijzigingsverzoek akkoord met Afnemersoverleg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Uitvoering: in afstemming met KING (Jan Brinkkemper)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600" spc="-1" strike="noStrike">
                <a:solidFill>
                  <a:srgbClr val="020048"/>
                </a:solidFill>
                <a:latin typeface="Verdana"/>
              </a:rPr>
              <a:t>Aug/sept: ontwerp StUF-bericht LZ &amp; leveranciers consultatie</a:t>
            </a:r>
            <a:endParaRPr b="0" lang="en-US" sz="1600" spc="-1" strike="noStrike">
              <a:solidFill>
                <a:srgbClr val="020048"/>
              </a:solidFill>
              <a:latin typeface="DejaVu Sans Condensed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600" spc="-1" strike="noStrike">
                <a:solidFill>
                  <a:srgbClr val="020048"/>
                </a:solidFill>
                <a:latin typeface="Verdana"/>
              </a:rPr>
              <a:t>Okt: verwerking commentaar; ontwerp vastgesteld</a:t>
            </a:r>
            <a:endParaRPr b="0" lang="en-US" sz="1600" spc="-1" strike="noStrike">
              <a:solidFill>
                <a:srgbClr val="020048"/>
              </a:solidFill>
              <a:latin typeface="DejaVu Sans Condensed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600" spc="-1" strike="noStrike">
                <a:solidFill>
                  <a:srgbClr val="020048"/>
                </a:solidFill>
                <a:latin typeface="Verdana"/>
              </a:rPr>
              <a:t>Nov: realisatie in code MO</a:t>
            </a:r>
            <a:endParaRPr b="0" lang="en-US" sz="1600" spc="-1" strike="noStrike">
              <a:solidFill>
                <a:srgbClr val="020048"/>
              </a:solidFill>
              <a:latin typeface="DejaVu Sans Condensed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600" spc="-1" strike="noStrike">
                <a:solidFill>
                  <a:srgbClr val="020048"/>
                </a:solidFill>
                <a:latin typeface="Verdana"/>
              </a:rPr>
              <a:t>Dec: testen op toetsomgeving van werking </a:t>
            </a:r>
            <a:endParaRPr b="0" lang="en-US" sz="1600" spc="-1" strike="noStrike">
              <a:solidFill>
                <a:srgbClr val="020048"/>
              </a:solidFill>
              <a:latin typeface="DejaVu Sans Condensed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600" spc="-1" strike="noStrike">
                <a:solidFill>
                  <a:srgbClr val="020048"/>
                </a:solidFill>
                <a:latin typeface="Verdana"/>
              </a:rPr>
              <a:t>Jan/febr: Review KING Expert  &amp; in productie in R 1.14b (6 febr)</a:t>
            </a:r>
            <a:endParaRPr b="0" lang="en-US" sz="1600" spc="-1" strike="noStrike">
              <a:solidFill>
                <a:srgbClr val="020048"/>
              </a:solidFill>
              <a:latin typeface="DejaVu Sans Condensed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600" spc="-1" strike="noStrike">
                <a:solidFill>
                  <a:srgbClr val="020048"/>
                </a:solidFill>
                <a:latin typeface="Verdana"/>
              </a:rPr>
              <a:t>Febr/mrt: productieaansluiting (Breda); 1</a:t>
            </a:r>
            <a:r>
              <a:rPr b="0" lang="nl-NL" sz="1600" spc="-1" strike="noStrike" baseline="30000">
                <a:solidFill>
                  <a:srgbClr val="020048"/>
                </a:solidFill>
                <a:latin typeface="Verdana"/>
              </a:rPr>
              <a:t>e</a:t>
            </a:r>
            <a:r>
              <a:rPr b="0" lang="nl-NL" sz="1600" spc="-1" strike="noStrike">
                <a:solidFill>
                  <a:srgbClr val="020048"/>
                </a:solidFill>
                <a:latin typeface="Verdana"/>
              </a:rPr>
              <a:t> praktijik leercurve</a:t>
            </a:r>
            <a:endParaRPr b="0" lang="en-US" sz="1600" spc="-1" strike="noStrike">
              <a:solidFill>
                <a:srgbClr val="020048"/>
              </a:solidFill>
              <a:latin typeface="DejaVu Sans Condensed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shpTitel"/>
          <p:cNvSpPr/>
          <p:nvPr/>
        </p:nvSpPr>
        <p:spPr>
          <a:xfrm>
            <a:off x="4483080" y="6539040"/>
            <a:ext cx="41562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9B9C9A4-19BC-44DE-A001-6C6664DB255D}" type="datetime3">
              <a:rPr b="0" lang="nl-NL" sz="1800" spc="-1" strike="noStrike">
                <a:solidFill>
                  <a:srgbClr val="ffffff"/>
                </a:solidFill>
                <a:latin typeface="Arial"/>
              </a:rPr>
              <a:t>30 juli 20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9" name="shpKleurvlakBoven"/>
          <p:cNvSpPr/>
          <p:nvPr/>
        </p:nvSpPr>
        <p:spPr>
          <a:xfrm>
            <a:off x="4476600" y="6369120"/>
            <a:ext cx="4164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0" name="shpBeeldmerk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8477762-AF67-4107-ACF5-6DE5950CB310}" type="slidenum">
              <a:rPr b="0" lang="nl-N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1" name="PlaceHolder 1"/>
          <p:cNvSpPr>
            <a:spLocks noGrp="1"/>
          </p:cNvSpPr>
          <p:nvPr>
            <p:ph type="title"/>
          </p:nvPr>
        </p:nvSpPr>
        <p:spPr>
          <a:xfrm>
            <a:off x="910800" y="1315800"/>
            <a:ext cx="80614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800" spc="-1" strike="noStrike">
                <a:solidFill>
                  <a:srgbClr val="b18e02"/>
                </a:solidFill>
                <a:latin typeface="Verdana"/>
              </a:rPr>
              <a:t>Beheer en onderhoud</a:t>
            </a:r>
            <a:endParaRPr b="1" lang="en-US" sz="28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542" name="PlaceHolder 2"/>
          <p:cNvSpPr>
            <a:spLocks noGrp="1"/>
          </p:cNvSpPr>
          <p:nvPr>
            <p:ph/>
          </p:nvPr>
        </p:nvSpPr>
        <p:spPr>
          <a:xfrm>
            <a:off x="588600" y="1916280"/>
            <a:ext cx="806148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-3603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Berichtdefinitie is deel van specs Release X MijnOverheid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60360" indent="-3603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Wijzigingen: op basis van advies Afnemersoverleg MO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60360" indent="-3603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Correctief onderhoud: correcties die functionaliteit niet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603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raken; bijv. uit 1</a:t>
            </a:r>
            <a:r>
              <a:rPr b="0" lang="nl-NL" sz="2000" spc="-1" strike="noStrike" baseline="30000">
                <a:solidFill>
                  <a:srgbClr val="020048"/>
                </a:solidFill>
                <a:latin typeface="Verdana"/>
              </a:rPr>
              <a:t>e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 praktijkaansluiting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60360" indent="-3603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Documentatie: in kader van aansluitproces opvraagbaar 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via website Logius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60360" indent="-3603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Publicatie in standaardenregister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603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603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603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shpTitel"/>
          <p:cNvSpPr/>
          <p:nvPr/>
        </p:nvSpPr>
        <p:spPr>
          <a:xfrm>
            <a:off x="4483080" y="6539040"/>
            <a:ext cx="41562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1E4B319-4A21-4429-B849-4CD654DC3CDB}" type="datetime3">
              <a:rPr b="0" lang="nl-NL" sz="1800" spc="-1" strike="noStrike">
                <a:solidFill>
                  <a:srgbClr val="ffffff"/>
                </a:solidFill>
                <a:latin typeface="Arial"/>
              </a:rPr>
              <a:t>30 juli 20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4" name="shpKleurvlakBoven"/>
          <p:cNvSpPr/>
          <p:nvPr/>
        </p:nvSpPr>
        <p:spPr>
          <a:xfrm>
            <a:off x="4476600" y="6369120"/>
            <a:ext cx="4164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5" name="shpBeeldmerk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306ED2E-CC60-4260-8A66-FCA7D03F2F86}" type="slidenum">
              <a:rPr b="0" lang="nl-N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910800" y="1315800"/>
            <a:ext cx="80614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800" spc="-1" strike="noStrike">
                <a:solidFill>
                  <a:srgbClr val="b18e02"/>
                </a:solidFill>
                <a:latin typeface="Verdana"/>
              </a:rPr>
              <a:t>Aansluiting </a:t>
            </a:r>
            <a:endParaRPr b="1" lang="en-US" sz="28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806112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000" spc="-1" strike="noStrike">
                <a:solidFill>
                  <a:srgbClr val="020048"/>
                </a:solidFill>
                <a:latin typeface="Verdana"/>
              </a:rPr>
              <a:t>Intentie verklaring 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  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Melding voornemen, ondertekend, met geplande datum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000" spc="-1" strike="noStrike">
                <a:solidFill>
                  <a:srgbClr val="020048"/>
                </a:solidFill>
                <a:latin typeface="Verdana"/>
              </a:rPr>
              <a:t>Formele start koppeling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Aanvraagformulier MO: </a:t>
            </a:r>
            <a:r>
              <a:rPr b="0" lang="nl-NL" sz="2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www.logius/toegang/MO/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000" spc="-1" strike="noStrike">
                <a:solidFill>
                  <a:srgbClr val="020048"/>
                </a:solidFill>
                <a:latin typeface="Verdana"/>
              </a:rPr>
              <a:t>Documentatie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Handleiding Aansluiting Lopende Zaken MijnOverheid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Koppelvlakspecificaties Lopende Zaken MijnOverheid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Technische Bestanden (XSD) LZ èn ProfielService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Testrapport/plan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Handreiking connectiviteit  (na aanvraagformulier)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shpTitel"/>
          <p:cNvSpPr/>
          <p:nvPr/>
        </p:nvSpPr>
        <p:spPr>
          <a:xfrm>
            <a:off x="4483080" y="6539040"/>
            <a:ext cx="41562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EED0586-E21B-412B-A2C9-B999194A5A71}" type="datetime3">
              <a:rPr b="0" lang="nl-NL" sz="1800" spc="-1" strike="noStrike">
                <a:solidFill>
                  <a:srgbClr val="ffffff"/>
                </a:solidFill>
                <a:latin typeface="Arial"/>
              </a:rPr>
              <a:t>30 juli 20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8" name="shpKleurvlakBoven"/>
          <p:cNvSpPr/>
          <p:nvPr/>
        </p:nvSpPr>
        <p:spPr>
          <a:xfrm>
            <a:off x="4476600" y="6369120"/>
            <a:ext cx="4164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9" name="shpBeeldmerk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066881A-406F-4FB1-BBBC-B8B92D1E5791}" type="slidenum">
              <a:rPr b="0" lang="nl-N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910800" y="1315800"/>
            <a:ext cx="80614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800" spc="-1" strike="noStrike">
                <a:solidFill>
                  <a:srgbClr val="b18e02"/>
                </a:solidFill>
                <a:latin typeface="Verdana"/>
              </a:rPr>
              <a:t>agenda</a:t>
            </a:r>
            <a:endParaRPr b="1" lang="en-US" sz="28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588600" y="2352600"/>
            <a:ext cx="8061480" cy="38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-3603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MijnOverheid in vogelvlucht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60360" indent="-3603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Lopende Zaken: werking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60360" indent="-3603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StUF-conformiteit: 2</a:t>
            </a:r>
            <a:r>
              <a:rPr b="0" lang="nl-NL" sz="2000" spc="-1" strike="noStrike" baseline="30000">
                <a:solidFill>
                  <a:srgbClr val="020048"/>
                </a:solidFill>
                <a:latin typeface="Verdana"/>
              </a:rPr>
              <a:t>e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 type zaakbericht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60360" indent="-3603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Totstandkoming berichtdefinitie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60360" indent="-3603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Beheer en onderhoud / rol Logius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603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shpTitel"/>
          <p:cNvSpPr/>
          <p:nvPr/>
        </p:nvSpPr>
        <p:spPr>
          <a:xfrm>
            <a:off x="4483080" y="6539040"/>
            <a:ext cx="41562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D7D4996-AFDB-4B9B-82C8-334EE0432F47}" type="datetime3">
              <a:rPr b="0" lang="nl-NL" sz="1800" spc="-1" strike="noStrike">
                <a:solidFill>
                  <a:srgbClr val="ffffff"/>
                </a:solidFill>
                <a:latin typeface="Arial"/>
              </a:rPr>
              <a:t>30 juli 20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3" name="shpKleurvlakBoven"/>
          <p:cNvSpPr/>
          <p:nvPr/>
        </p:nvSpPr>
        <p:spPr>
          <a:xfrm>
            <a:off x="4476600" y="6369120"/>
            <a:ext cx="4164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4" name="shpBeeldmerk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B472EEE-2910-4F55-9537-6026E4C8AAF5}" type="slidenum">
              <a:rPr b="0" lang="nl-N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910800" y="1315800"/>
            <a:ext cx="80614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800" spc="-1" strike="noStrike">
                <a:solidFill>
                  <a:srgbClr val="b18e02"/>
                </a:solidFill>
                <a:latin typeface="Verdana"/>
              </a:rPr>
              <a:t>MijnOverheid in vogelvlucht</a:t>
            </a:r>
            <a:endParaRPr b="1" lang="en-US" sz="28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496" name="PlaceHolder 2"/>
          <p:cNvSpPr>
            <a:spLocks noGrp="1"/>
          </p:cNvSpPr>
          <p:nvPr>
            <p:ph/>
          </p:nvPr>
        </p:nvSpPr>
        <p:spPr>
          <a:xfrm>
            <a:off x="588600" y="1989000"/>
            <a:ext cx="8061480" cy="41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=&gt;MijnOverheid beoogt: een burger overzicht te geven van 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zijn zaken, correspondentie en eigen gegevens van en bij 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overheden (digitaal, daar waar internet beschikbaar is).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=&gt;MijnOverheid kent 3 kernfuncties: 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Berichtenbox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Inzage Persoonsgegevens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Lopende Zaken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=&gt; ‘Producteigenaar’: Bestuurlijk Overleg (FIN/BD = vz)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7" name="Picture 4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1219176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360000" cy="701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shpTitel"/>
          <p:cNvSpPr/>
          <p:nvPr/>
        </p:nvSpPr>
        <p:spPr>
          <a:xfrm>
            <a:off x="4483080" y="6539040"/>
            <a:ext cx="41562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8EA868E-0E7E-4D93-82E8-5680E3F870F8}" type="datetime3">
              <a:rPr b="0" lang="nl-NL" sz="1800" spc="-1" strike="noStrike">
                <a:solidFill>
                  <a:srgbClr val="ffffff"/>
                </a:solidFill>
                <a:latin typeface="Arial"/>
              </a:rPr>
              <a:t>30 juli 20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0" name="shpKleurvlakBoven"/>
          <p:cNvSpPr/>
          <p:nvPr/>
        </p:nvSpPr>
        <p:spPr>
          <a:xfrm>
            <a:off x="4476600" y="6369120"/>
            <a:ext cx="4164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1" name="shpBeeldmerk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50CD82F-4D9F-4AA8-9684-4DD48C7B2769}" type="slidenum">
              <a:rPr b="0" lang="nl-N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910800" y="1315800"/>
            <a:ext cx="80614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800" spc="-1" strike="noStrike">
                <a:solidFill>
                  <a:srgbClr val="b18e02"/>
                </a:solidFill>
                <a:latin typeface="Verdana"/>
              </a:rPr>
              <a:t>Lopende Zaken: gebruik</a:t>
            </a:r>
            <a:endParaRPr b="1" lang="en-US" sz="28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/>
          </p:nvPr>
        </p:nvSpPr>
        <p:spPr>
          <a:xfrm>
            <a:off x="588600" y="1916280"/>
            <a:ext cx="806148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6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54 aangesloten partijen (ca. 8 leveranciers)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56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2 koppelvlakken: berichtverkeer met Digikoppeling &amp; SMTP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56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56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56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56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56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In aantocht 2013: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Openbaar Ministerie, gemeente Breda 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56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Later: iNUP 2015: alle gemeenten; OLO, opties: CIZ, CAK …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</p:txBody>
      </p:sp>
      <p:pic>
        <p:nvPicPr>
          <p:cNvPr id="2504" name="Picture 1" descr=""/>
          <p:cNvPicPr/>
          <p:nvPr/>
        </p:nvPicPr>
        <p:blipFill>
          <a:blip r:embed="rId1"/>
          <a:stretch/>
        </p:blipFill>
        <p:spPr>
          <a:xfrm>
            <a:off x="468360" y="2973240"/>
            <a:ext cx="849636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shpTitel"/>
          <p:cNvSpPr/>
          <p:nvPr/>
        </p:nvSpPr>
        <p:spPr>
          <a:xfrm>
            <a:off x="4483080" y="6539040"/>
            <a:ext cx="41562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E88B882-5639-441C-BBB1-D65C26AC68E1}" type="datetime3">
              <a:rPr b="0" lang="nl-NL" sz="1800" spc="-1" strike="noStrike">
                <a:solidFill>
                  <a:srgbClr val="ffffff"/>
                </a:solidFill>
                <a:latin typeface="Arial"/>
              </a:rPr>
              <a:t>30 juli 20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6" name="shpKleurvlakBoven"/>
          <p:cNvSpPr/>
          <p:nvPr/>
        </p:nvSpPr>
        <p:spPr>
          <a:xfrm>
            <a:off x="4476600" y="6369120"/>
            <a:ext cx="4164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7" name="shpBeeldmerk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728944D-63DC-424C-B009-786306A5CA76}" type="slidenum">
              <a:rPr b="0" lang="nl-N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910800" y="1315800"/>
            <a:ext cx="80614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800" spc="-1" strike="noStrike">
                <a:solidFill>
                  <a:srgbClr val="b18e02"/>
                </a:solidFill>
                <a:latin typeface="Verdana"/>
              </a:rPr>
              <a:t>Lopende Zaken: werking</a:t>
            </a:r>
            <a:endParaRPr b="1" lang="en-US" sz="28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/>
          </p:nvPr>
        </p:nvSpPr>
        <p:spPr>
          <a:xfrm>
            <a:off x="588600" y="2420640"/>
            <a:ext cx="80614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Afnemer/gemeente: 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603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- wil bij start v/e zaak de zaakstatus posten bij MO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603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- verifieert “account BSN beschikbaar”: profielservice MO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603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- bij bevestiging: posten van zaakstatus in MO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603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- indien Digikoppeling: ebMS-variant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603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foutmeldingen indien onbestelbaar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603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603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603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shpTitel"/>
          <p:cNvSpPr/>
          <p:nvPr/>
        </p:nvSpPr>
        <p:spPr>
          <a:xfrm>
            <a:off x="4483080" y="6539040"/>
            <a:ext cx="41562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BB3E792-6F89-4517-A490-DAC229930B3E}" type="datetime3">
              <a:rPr b="0" lang="nl-NL" sz="1800" spc="-1" strike="noStrike">
                <a:solidFill>
                  <a:srgbClr val="ffffff"/>
                </a:solidFill>
                <a:latin typeface="Arial"/>
              </a:rPr>
              <a:t>30 juli 20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1" name="shpKleurvlakBoven"/>
          <p:cNvSpPr/>
          <p:nvPr/>
        </p:nvSpPr>
        <p:spPr>
          <a:xfrm>
            <a:off x="4476600" y="6369120"/>
            <a:ext cx="4164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2" name="shpBeeldmerk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95AA26E-2D19-4B64-A972-E45D94C9C41D}" type="slidenum">
              <a:rPr b="0" lang="nl-N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910800" y="1315800"/>
            <a:ext cx="80614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800" spc="-1" strike="noStrike">
                <a:solidFill>
                  <a:srgbClr val="b18e02"/>
                </a:solidFill>
                <a:latin typeface="Verdana"/>
              </a:rPr>
              <a:t>Lopende Zaken: werking(2)</a:t>
            </a:r>
            <a:endParaRPr b="1" lang="en-US" sz="28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514" name="PlaceHolder 2"/>
          <p:cNvSpPr>
            <a:spLocks noGrp="1"/>
          </p:cNvSpPr>
          <p:nvPr>
            <p:ph/>
          </p:nvPr>
        </p:nvSpPr>
        <p:spPr>
          <a:xfrm>
            <a:off x="588600" y="2492280"/>
            <a:ext cx="80614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49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Gebruiker/burger: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49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- krijgt notitificatie MijnOverheid “nieuwe zaakstatus”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49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- logt in bij MO en raadpleegt LZ-overzicht (op BSN)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49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- optie: link naar MijnGemeente / Persoonlijk Dossier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49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indien SSO (e.i.): in zelfde DigiD-sessie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49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49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NB: eind Q2 overgang DigiD-midden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49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49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49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49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shpTitel"/>
          <p:cNvSpPr/>
          <p:nvPr/>
        </p:nvSpPr>
        <p:spPr>
          <a:xfrm>
            <a:off x="4483080" y="6539040"/>
            <a:ext cx="41562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4A1117B-2187-4C0B-BB65-11E4FC21D7A1}" type="datetime3">
              <a:rPr b="0" lang="nl-NL" sz="1800" spc="-1" strike="noStrike">
                <a:solidFill>
                  <a:srgbClr val="ffffff"/>
                </a:solidFill>
                <a:latin typeface="Arial"/>
              </a:rPr>
              <a:t>30 juli 20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6" name="shpKleurvlakBoven"/>
          <p:cNvSpPr/>
          <p:nvPr/>
        </p:nvSpPr>
        <p:spPr>
          <a:xfrm>
            <a:off x="4476600" y="6369120"/>
            <a:ext cx="4164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7" name="shpBeeldmerk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5DD8574-2811-4784-A560-11EDE78F4AEF}" type="slidenum">
              <a:rPr b="0" lang="nl-N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910800" y="1315800"/>
            <a:ext cx="80614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800" spc="-1" strike="noStrike">
                <a:solidFill>
                  <a:srgbClr val="b18e02"/>
                </a:solidFill>
                <a:latin typeface="Verdana"/>
              </a:rPr>
              <a:t>Lopende Zaken: werking</a:t>
            </a:r>
            <a:endParaRPr b="1" lang="en-US" sz="2800" spc="-1" strike="noStrike">
              <a:solidFill>
                <a:srgbClr val="b18e02"/>
              </a:solidFill>
              <a:latin typeface="DejaVu Sans Condensed"/>
            </a:endParaRPr>
          </a:p>
        </p:txBody>
      </p:sp>
      <p:sp>
        <p:nvSpPr>
          <p:cNvPr id="2519" name="PlaceHolder 2"/>
          <p:cNvSpPr>
            <a:spLocks noGrp="1"/>
          </p:cNvSpPr>
          <p:nvPr>
            <p:ph/>
          </p:nvPr>
        </p:nvSpPr>
        <p:spPr>
          <a:xfrm>
            <a:off x="588600" y="2352600"/>
            <a:ext cx="8061480" cy="38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Afnemer/gemeente: 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603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- wil bij start zaakstatus posten bij MO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603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- verifieert “account BSN beschikbaar”: profielservice MO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603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- bij bevestiging: posten van zaakstatus in MO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603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Gebruiker/burger: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603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- krijgt notitificatie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603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048"/>
                </a:solidFill>
                <a:latin typeface="Verdana"/>
              </a:rPr>
              <a:t>- logt in bij MO en raadpleegt LZ-overzicht (op BSN)</a:t>
            </a: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603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603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  <a:p>
            <a:pPr marL="3603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20048"/>
              </a:solidFill>
              <a:latin typeface="DejaVu Sans Condensed"/>
            </a:endParaRPr>
          </a:p>
        </p:txBody>
      </p:sp>
      <p:pic>
        <p:nvPicPr>
          <p:cNvPr id="2520" name="Afbeelding 6" descr="G:\Servicemanagement\MijnOverheid\6_Klantdocumentatie\3_Aansluitproces\3. Koppelvlakspecificaties\1. Architectuurplaten\berichtenstroomMO-publiek_v3.1.png"/>
          <p:cNvPicPr/>
          <p:nvPr/>
        </p:nvPicPr>
        <p:blipFill>
          <a:blip r:embed="rId1"/>
          <a:stretch/>
        </p:blipFill>
        <p:spPr>
          <a:xfrm>
            <a:off x="474840" y="657360"/>
            <a:ext cx="8194320" cy="56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4:32:00Z</dcterms:created>
  <dc:creator>Monique Dassen</dc:creator>
  <dc:description/>
  <dc:language>en-US</dc:language>
  <cp:lastModifiedBy>Peter Klaver</cp:lastModifiedBy>
  <cp:lastPrinted>2010-11-11T07:37:08Z</cp:lastPrinted>
  <dcterms:modified xsi:type="dcterms:W3CDTF">2013-02-06T13:17:20Z</dcterms:modified>
  <cp:revision>220</cp:revision>
  <dc:subject/>
  <dc:title>Dia 1</dc:title>
</cp:coreProperties>
</file>